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9AF3-557D-4204-83ED-4CCA596AA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52C6F-A40A-4FBC-922E-6F213D44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85C8-0781-466E-8748-0B7AF8B0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278A1-13F8-4974-81FD-6BB5A2C1A8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4E17-BA0F-43BF-90B6-CB73D2B0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8B0D2-1FCC-4EB7-9A92-F06D239F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6FFA-586B-457B-98B7-62BEDF35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DC5FB-9F3F-4317-BFC7-150C72F5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2D42-B8CA-46F4-8CF3-D8F4B801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216C-6FDD-4E9E-954C-F20FDC03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C598E-7BBB-4A08-A87E-A0193A65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0A81-79B0-4453-BC4D-EBD82ED2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20C2-E51E-470C-A1D6-B410F643FA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肺段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中央型小细胞未分化肺癌，给予紫杉醇与顺铂联合术前化疗。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应如何进行呼吸道护理？②全肺切除术后胸腔引流管有哪些护理要点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出血、肺部感染、急性肺水肿、肺不张、心律失常、支气管胸膜瘘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，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营养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采取合适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第十三章胸部损伤患者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肺切除术后胸腔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发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患者手术前后呼吸道管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肺癌不同术式术后体位摆放方法和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肺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是一种常见的恶性肿瘤，其发病率和死亡率均有逐年上升的趋势。目前认为长期大量吸烟是肺癌重要致病因素，另外还与职业致癌因素、人体免疫状态、代谢状态、遗传等因素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癌因生长部位和病理类型不同，临床表现和进展速度有所区别。一般早期可出现刺激性干咳、血痰、胸闷、气促、发热、胸痛等症状，晚期压迫临近器官或发生转移时可出现相应部位的症状与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手术治疗为主，结合放射治疗、化学治疗、免疫治疗等综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进行呼吸训练，改善肺泡通气和换气功能，术后根据手术术式给予合适体位，进行呼吸功能锻炼，预防肺水肿和肺部感染并发症的出现。全肺切除术患者注意避免过度侧卧，胸腔引流管钳闭，酌情放液，控制补液的速度和量。为早期发现、早期治疗，对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以上吸烟男性患者尤其应做好普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起源于支气管黏膜上皮，也称支气管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咳嗽少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多月，半个月来伴声音嘶哑。双侧颈后可触及多个可活动淋巴结。患病后无发热。吸烟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7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 8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P 135/85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：左肺门处块状阴影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肺癌，特别是周围型肺癌往往无任何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咳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纵隔，压迫食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远处转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、脑、肝脏、骨骼和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上淋巴结是肺癌转移的常见部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20:56Z</dcterms:modified>
  <cp:revision>90</cp:revision>
  <dc:subject/>
  <dc:title>内科护理学</dc:title>
</cp:coreProperties>
</file>